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0CA-7A57-4751-9062-0D5E9054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125E-152C-458F-BABB-856C07D1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616A-1ADD-4C4B-A777-71F62FE9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48AC-1D18-4886-9DC1-FD260EEE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C0EC-16F0-4E64-A905-95A171F4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BDC3-1C88-4CCF-ADD7-F91C531F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E0FD-635D-4B96-A2A8-10BED359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EBC4-ACF3-4A35-AA92-BC3E1696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DE99-2057-4501-A64A-797B23FB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1FB1-E7B3-4090-9FC4-7253D85F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5E25-5007-467E-A14F-60682D8E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0828-FAAF-4C89-8CAB-B300C9F6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2CC8-F6D7-4A5A-9D3E-D7F07008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74BC-1F1E-4D2C-99BE-BE707BDC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0ADF-CB36-4D19-8535-6ABBA6D7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F2B3-CC0A-46EA-A098-C154A230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CB4C-EFA3-410A-9596-8C7BC7B4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9B4-4160-4562-9906-CF8B8D90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49F2-C86A-44DC-9CD7-8AEC8F43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1D4-874C-4BFA-A40A-AED66E33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076-F56A-4162-80A0-E68318BC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890-A32F-4785-95E8-A62A3647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01B-639A-439F-A758-04609607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B9EF-3442-44CB-9DA3-484F3AFF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033D-6F90-4B7F-8E85-31AC5F0D92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BC43-14A1-4C82-9356-0A47C16DA4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УПРАВЉАЊ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ТРОШКОВИМ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Савремени приступи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управљања трошкови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трошкова по активностим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 costing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по циљним трошкови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укупног трошка животног циклуса произво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трошкова атрибута произво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трошкова по процеси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трошкова по ланцу вред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трошкова по Кајзен техниц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трошкова по активностим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– Activity Based Costing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развијен 80-тих годи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астао је у 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САД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азвили су га Роберт 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Каплан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и Робин 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Купер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напређење и н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доградња традиционалних систе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нализе и обрачуна трошк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Још увек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ије нашао ширу примену у Србиј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трошкова по активностима се заснива на следећим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тпоставка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 би се произвео производ или пружила услуга неопходно је обавити следеће актив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обављање активности неопходно је утрошити одређене ресур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ности су основ за алокацију трошк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рочници потрошње ресурса и узрочници активности не морају бити везани за обим прода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обрачун трошкова здравствених установа релевантна су места трошкова која учествују у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оцесима, активности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ограм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 за планирање и праћене трошкова у здравственим установама је подела места трошков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ема функција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шкови се, према функцијама, у здравственим установама могу поделити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а трошкова пружања здравствених услу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министративна места трош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еста трошкова пружања здравствених услуг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, према функцији у процесу медицинских поступака, могу поделити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еста трошкова главне делатност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 пример: клинике или одељења) који могу да стварају прих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еста трошкова споредне делатност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 пример: лабораторија или радиологија) који пружају дијагностичке поступке за пацијенте који се налазе смештени на места трошкова главне дела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Фазе имплементације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BC </a:t>
            </a:r>
            <a:r>
              <a:rPr b="1" lang="sr-RS" sz="2200" spc="-1" strike="noStrike">
                <a:solidFill>
                  <a:srgbClr val="0000ff"/>
                </a:solidFill>
                <a:latin typeface="Arial"/>
              </a:rPr>
              <a:t>метод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дентификација производа/услуга/корисника који су носиоци трошков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тврђивање главних активности и база, односно фактора трошења по тим активностим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тврђивање директних трошкова производа/услуг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тврђивање индиректних трошкова пружања услуга (општих трошкова) по појединим активностим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окација индиректних трошкова пружања услуга на носиоце трошкова утврђених фактора трошењ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тврђивање индиректних трошкова пружања услуге по јединици производа/услуга/корисн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тврђивање укупних и једничних трошкова поједини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а/услуга/корис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447920"/>
          <a:ext cx="8229600" cy="5317920"/>
        </p:xfrm>
        <a:graphic>
          <a:graphicData uri="http://schemas.openxmlformats.org/drawingml/2006/table">
            <a:tbl>
              <a:tblPr/>
              <a:tblGrid>
                <a:gridCol w="3352680"/>
                <a:gridCol w="1067040"/>
                <a:gridCol w="914400"/>
                <a:gridCol w="1143000"/>
                <a:gridCol w="990360"/>
                <a:gridCol w="7621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иљеви увођ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нгле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н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ранцу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мач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р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ћање учи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ширење акти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акшати избор пацијенти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ањити чека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ољшање квалитета услуг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една рсподела између географских подручја и самих уста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ћа транспарентност финанс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иће трошк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и услови за приватне и јавне устано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ље управљање  документи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оставити везу између активности и услу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јем 20. века развија се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-Driven Activity Based Costing (TDAB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дносно 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обрачун трошкова према активностима заснован на времен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DABC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је варијан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методе развијена да поједностави имплементацију и одржавање управљачког рачуноводст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DABC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метода користи 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квантитативне факторе трошења базиране на активностима ресурс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који се користе у пружању здравствених усл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30T06:26:52Z</dcterms:modified>
  <cp:revision>180</cp:revision>
  <dc:subject/>
  <dc:title>Soft and Hard Skills Development: A Current Situation in Serbian Companies</dc:title>
</cp:coreProperties>
</file>